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move the slide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0C61-9284-425E-801F-AC27BFBDC0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228600" indent="-22716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627120" indent="-28404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1712880" indent="-22860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4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5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6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1440" indent="0" algn="ctr">
              <a:lnSpc>
                <a:spcPct val="109000"/>
              </a:lnSpc>
              <a:spcBef>
                <a:spcPts val="1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343080" algn="ctr">
              <a:lnSpc>
                <a:spcPct val="109000"/>
              </a:lnSpc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85716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4" marL="120024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5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6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algn="ctr">
              <a:lnSpc>
                <a:spcPct val="109000"/>
              </a:lnSpc>
              <a:spcBef>
                <a:spcPts val="13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9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أبريل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19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20" name="Boatblueoverlay" descr=""/>
          <p:cNvPicPr/>
          <p:nvPr/>
        </p:nvPicPr>
        <p:blipFill>
          <a:blip r:embed="rId1"/>
          <a:stretch/>
        </p:blipFill>
        <p:spPr>
          <a:xfrm>
            <a:off x="7848720" y="23508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061040" y="65833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48720" y="2332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984240"/>
            <a:ext cx="86295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20640" y="1700280"/>
          <a:ext cx="8218440" cy="508788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11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المخاطر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67868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- تقارير ورش العمل عن مشاكل المخاطر والرقاب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24926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شهرية والسنوي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620640" y="1700280"/>
            <a:ext cx="535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ارير تتضمن تحليلا لجوانب المخاطر التى تتعرض لها المنشأة من حيث احتمالتها وتاثير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المخاطر واساليب الرقابة المستخدمة  لتحقيق متطلبات حوكمة الشرك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0640" y="2847960"/>
            <a:ext cx="54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2793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رش عمل  مع الأدارات المختصة لمناقشة الأراء المختلفة والأساليب البديلة لتحقيق الأهداف وتتضمن عاد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جالات الخطر الرئيسية التى تم تحديد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يان احتمالات حدوث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ى تم الأتفاق على اتخاذها بهذا الشأن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4335480"/>
            <a:ext cx="4952880" cy="26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اعداد تقارير شهرية وسنوية للأدارة لتوفر لها التأكيد المناسب عن مستوى المخاطر والرقابة ومدى الألتزام بمتطلبات الحوكمة  وتوضح صورة شاملة لهذه الأوضاع وتشتمل عادة ع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حصائيات الأداء لأدارة المراجعة الداخلية  بما فيها ما تم انجازه طبقا للمعايير المتفق علي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ملخص التوصيات القائم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خاطر الحددة والتى لم يتم اعداد تقارير عن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خطط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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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20640" y="2131920"/>
          <a:ext cx="8218440" cy="4334040"/>
        </p:xfrm>
        <a:graphic>
          <a:graphicData uri="http://schemas.openxmlformats.org/drawingml/2006/table">
            <a:tbl>
              <a:tblPr/>
              <a:tblGrid>
                <a:gridCol w="5217840"/>
                <a:gridCol w="3000600"/>
              </a:tblGrid>
              <a:tr h="196560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رسمي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lvl="1" marL="401760" indent="-400320" algn="r" rtl="1">
                        <a:lnSpc>
                          <a:spcPct val="109000"/>
                        </a:lnSpc>
                        <a:spcBef>
                          <a:spcPts val="1363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مذكرات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buClr>
                          <a:srgbClr val="3399ff"/>
                        </a:buClr>
                        <a:buFont typeface="Times New Roman"/>
                        <a:buChar char="-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4108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بأسلوب التصنيف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812880" y="5067360"/>
            <a:ext cx="49528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صنيف أو ترميز التقارير طبقا لأهمي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لوان( احمر أصفر اخضر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رقام/ الحروف ( 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1,2,3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)  (أ, ب,ج 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عبارات (مقبول, مرضى, غير مقبول, غير مرضى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0640" y="1512720"/>
            <a:ext cx="53863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48276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3120" y="2144880"/>
            <a:ext cx="55753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111111"/>
                </a:solidFill>
                <a:uFillTx/>
                <a:latin typeface="Times New Roman"/>
                <a:cs typeface="Times New Roman"/>
              </a:rPr>
              <a:t>ويشتمل عادة ع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تنفيذى يتضمن نطاق العمل واسلوبه واهداف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الأستنتاج الذى تم التوصل اليه والرأى                                                                                      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يجب ان يكون واضحا وكافيا لإحاطة القارئ بالنقاط الرئيس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- يعطى الأنطباع المطلوب دون الرجوع الى تفاصيل  كثي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النتائج والتوصي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تائج التفصيلية والخطوات المتفق عليها للأصلاح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احق التقرير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66960" y="4175280"/>
            <a:ext cx="680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ذكرات مختصرة مناسبة للمراجعات الصغيرة لاتحتاج لتقرير كام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نتائج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شكل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0640" y="1446120"/>
            <a:ext cx="7888320" cy="5079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2320" y="1555920"/>
            <a:ext cx="74516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السليم للتقرير يساعد على توصيل النتائج للمستويات الأدارية المختلفة بصورة واضحة تزيد من فعاليته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76440" y="2135160"/>
            <a:ext cx="77882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109000"/>
              </a:lnSpc>
              <a:spcBef>
                <a:spcPts val="27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4000" spc="-1" strike="noStrike">
                <a:solidFill>
                  <a:srgbClr val="ffe28f"/>
                </a:solidFill>
                <a:latin typeface="Times New Roman"/>
                <a:cs typeface="Bold Italic Art"/>
              </a:rPr>
              <a:t>استراحة</a:t>
            </a:r>
            <a:endParaRPr b="0" lang="en-US" sz="40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6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2400" spc="-1" strike="noStrike">
                <a:solidFill>
                  <a:srgbClr val="ffe28f"/>
                </a:solidFill>
                <a:latin typeface="Times New Roman"/>
                <a:ea typeface="Times New Roman"/>
              </a:rPr>
              <a:t>5 </a:t>
            </a:r>
            <a:r>
              <a:rPr b="0" lang="ar-SA" sz="2400" spc="-1" strike="noStrike">
                <a:solidFill>
                  <a:srgbClr val="ffe28f"/>
                </a:solidFill>
                <a:latin typeface="Times New Roman"/>
                <a:cs typeface="Times New Roman"/>
              </a:rPr>
              <a:t>دقائق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1120" y="1063800"/>
            <a:ext cx="79167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4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فحص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وتقييم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لأعمال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71880" y="2131920"/>
            <a:ext cx="60498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85104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4400" y="3110040"/>
            <a:ext cx="522468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 الداخل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22560" y="4240080"/>
            <a:ext cx="52246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فأة المهنية للمراجعين الداخلييين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55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decfe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30720" y="1522440"/>
            <a:ext cx="2959200" cy="8269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28880" y="1496880"/>
            <a:ext cx="2958840" cy="8272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463840"/>
            <a:ext cx="421632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6760" y="2489040"/>
            <a:ext cx="4216320" cy="39880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61120" y="1700280"/>
            <a:ext cx="2503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قع التنظيم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55800" y="1700280"/>
            <a:ext cx="161784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ضوعية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06920" y="2523960"/>
            <a:ext cx="418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كون مدير المراجعة الداخلية مسئولا امام شخص له من السلطة  ما يضمن الأهتمام بتقريره ووضع توصياته محل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06920" y="3260880"/>
            <a:ext cx="418932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كون لمدير المراجعة الداخلية اتصال مباشر مع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32480" y="3870360"/>
            <a:ext cx="4189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عتماد مجلس الأدارة لتعيين اوتغيير مدير المراجعة الداخلية يساعد على تدعيم استقلالي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83240" y="4606920"/>
            <a:ext cx="418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توصيف موثق لسلطات ومسئوليات مدير المراجعة الداخلية يتتضمن :-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ضع الأدارة فى الهيكل التنظيم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ق المراجع فى الأطلاع على كافة المستندات والأتصال بالأفراد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صف مجال عمل المراجعة الداخلية ومدا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56160" y="5952960"/>
            <a:ext cx="41893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تقريره السنوى الى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6120" y="2511360"/>
            <a:ext cx="418968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ايتولى المراجعون اعمال تنفيذية وفى حالة نقل شخص الى الأدارة يجب الأ يراجع الجهة التى كان بها قبل فترة زمنية مناسب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1680" y="3286080"/>
            <a:ext cx="41893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راعى  تكليف المراجعيين بأعمال فى مجالات لاتكون بينهم وبين المسئولين عنها خلافات شخصية اوتحيز لصالحهم اوضدهم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6120" y="4073400"/>
            <a:ext cx="4189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مدير المراجعة ان يغير مجال عمل المراجعين دوري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120" y="4403880"/>
            <a:ext cx="41896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المراجع الداخلى ان يوضح لمديره أى احتمالات نقص حياد نتيجة تعامله مع الأشخاص المكلف بمراجعة اعمالهم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6120" y="4924440"/>
            <a:ext cx="418968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رض نتائج المراجعة على الأشخاص الذين تمت مراجعة اعمالهم قبل تقديم تقريره النهائى لضمان الموضوعية ومنعا لحدوث لبس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6120" y="5775480"/>
            <a:ext cx="4189680" cy="10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تتأثر استقلالية المراجع اذا اوصى بتطبيق معايير رقابية معينة للنظم او اذا فحص الأجراءات وعلق عليها قبل تنفيذها  , تصميم النظم وتطبيقها ليس من وظائف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7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70080" y="133200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41480" y="1700280"/>
            <a:ext cx="75819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884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0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96240" y="1878120"/>
            <a:ext cx="842220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بقا للمفاهيم الحديثة فان نطاق عمل المراجعة الداخلية يمتد ليشمل مجالات متعدد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908280" y="2714760"/>
            <a:ext cx="114688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هتم المراجع الخارجى المكلف بمراجعة القوائم المالية بنطاق عمل المراجع الداخلى فى المجالات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-63360" y="3565440"/>
            <a:ext cx="10357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ى المراجع الداخلى فحص برامج المراجعة الداخلية واوراق عملها لتحديد المجالات التى شملتها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1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كفأ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هن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ين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64200" y="1878120"/>
            <a:ext cx="74210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طاء اهتمام خاص بدراسة وتقييم الكفأة المهنية للمراجعين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05920" y="3565440"/>
            <a:ext cx="4732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وافر الكفأة المهنية بالأضافة للأستقل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4600" y="2525760"/>
            <a:ext cx="83962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شمل تقييم مؤهلاتهم العلمية وخبراتهم العملية وعلاقتها بأعمال المراجعة المسندة لهم, بالأ ضافة  الى خبرة المراجع الخارجى السابقة فى التعامل معه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ي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ما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غرض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تما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ليه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0640" y="1332000"/>
            <a:ext cx="8129520" cy="9633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41480" y="1700280"/>
            <a:ext cx="75819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ذا قرر المراجع الخارجى استخدام عمل محدد من اعمال المراجعة الداخلية والأعتماد عليه كأساس لتحديد طبيعة وتوقيت ومدى إجراءات مراجعته فيجب عليه التأكد مما يلى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0640" y="2463840"/>
            <a:ext cx="816768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0640" y="285444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فاية نطاق وبرامج المراجعة الداخلية لاغراض المراجع الخارجى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0640" y="326088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لامة التخطيط لعمل المراجعة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0640" y="365436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افر الأشراف على اعمال المساعدين وفحص وتسجيل اعمالهم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0640" y="406080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صول على ادلة اثبات مناسبة وكافية تصلح كأساس للنتائج التى تم التوصل اليها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3240" y="4467240"/>
            <a:ext cx="81378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حة النتائج التى تم التوصل اليها فى ضوء الظروف المحيطة وان التقارير المعدة متفقة مع هذه النتائج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0640" y="486108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اية موضوعات غير عادية كشفت عنها اعمال المراجعة الداخلية قد تم ايضاحها أو تسو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تاسع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علاق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ين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خارجي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علاق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و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48480" y="1525680"/>
            <a:ext cx="308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داف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79840" y="1957320"/>
            <a:ext cx="3521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30440" y="2490840"/>
            <a:ext cx="356076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هوم الحديث ل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92320" y="3036960"/>
            <a:ext cx="4251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اهيم الأساسية للتعريف الحديث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08280" y="3544920"/>
            <a:ext cx="353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 تقارير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30960" y="4154400"/>
            <a:ext cx="337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لاقة مع المراجع الخارج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35160" y="4751280"/>
            <a:ext cx="3756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فحص وتقييم عمل المراجع الداخ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0360" y="5322960"/>
            <a:ext cx="5232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قييم عمل معين من اعما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03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أهدا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29200" y="3071880"/>
            <a:ext cx="294984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انظمة الرقاب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طويرها بتكاليف مناسب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94360" y="4533840"/>
            <a:ext cx="280692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58080" y="2995560"/>
            <a:ext cx="2806560" cy="749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19440" y="588024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495360" y="4214880"/>
            <a:ext cx="36576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الألتزام بالخطط والسياس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أجراءات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0640" y="1397160"/>
            <a:ext cx="7837560" cy="11030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6040" y="2946240"/>
            <a:ext cx="288324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0520" y="51688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40114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5920" y="5305320"/>
            <a:ext cx="29923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صحة وسلامة المعلومات الصادرة عن نظام المعلوم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0640" y="4809960"/>
            <a:ext cx="1879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كفأة الأداء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37000" y="6004080"/>
            <a:ext cx="3041640" cy="10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التوصيات اللازمة لتحسين الخطط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نظم والسياسات وال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41480" y="1700280"/>
            <a:ext cx="75819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هدف المراجعة الداخلية الى مساعدة الأدارة فى القيام بوظائفها عن طريق امدادها بالتحليل والتقييم المناسب للأنشطة التى يتولى مراجعتها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ن خلا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060360" y="3213000"/>
            <a:ext cx="16383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048120" y="4292640"/>
            <a:ext cx="16509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098880" y="5397480"/>
            <a:ext cx="15876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2552760"/>
            <a:ext cx="0" cy="33400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3441600"/>
            <a:ext cx="13338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11680" y="4851360"/>
            <a:ext cx="129528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000" y="3006720"/>
            <a:ext cx="31366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حماية اصول الشركة من الأختلاس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الضياع أو سوء الأستخد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2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57480" y="139716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65160" y="1541520"/>
            <a:ext cx="7581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440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57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هو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3280" y="3247920"/>
            <a:ext cx="78800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نشاط محايد موضوعىاست</a:t>
            </a: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ى ومطمئمن , يهدف الى زيادة قيمة عمليات المنشأة وتحسينها. وتساعد المراجعة الداخلية فى تحقيق أهداف المنشأة عن طريق أسلوب منتظم ومنضبط لتقييم وتحسين فعالية إجراأت ادارة المخاطر والرقابة والحوكم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21240" y="1700280"/>
            <a:ext cx="9133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صدر مجمع المراجعين الداخليين احدث تعاريفه للمراجعة الداخلية فى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7320" y="2882880"/>
            <a:ext cx="7886880" cy="21718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6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اه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أساس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تبط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التعري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-1532160" y="1700280"/>
            <a:ext cx="12502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ى تغيير تعريف المراجعة الداخلية الى تغيير مفاهيم المراجعة الداخلية ونطاق عملها على النحو التا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72360" y="2701800"/>
            <a:ext cx="6174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19840" y="2208240"/>
            <a:ext cx="1638360" cy="11174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36960" y="2208240"/>
            <a:ext cx="1638360" cy="11048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08240" y="2233440"/>
            <a:ext cx="1638000" cy="111780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09760" y="2320920"/>
            <a:ext cx="1690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14480" y="2346480"/>
            <a:ext cx="1978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25520" y="2397240"/>
            <a:ext cx="1736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من خارج المنشأ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03840" y="378288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6160" y="3857760"/>
            <a:ext cx="2187720" cy="29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خاطر الأعمال هى عدم تحقيق الأدارة لأهداف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ئولية الأدارة اعداد برنامج مواجهة هذه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هداف المراجعة الداخلية تقييم وتحسين إجراءات إدارة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تبر من انواع المراجعة الأدارية التى تهدف الى تقييم كفاءة وفعالية ادارة المنشأ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97280" y="3808440"/>
            <a:ext cx="2057400" cy="2603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54080" y="382104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36880" y="3908520"/>
            <a:ext cx="1974960" cy="30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أداة للتأكد من الألتزام بالخطط والسياسات لتحقيق أهداف المنشأة بأقصى قدر ممكن من الكفأة والفاعلي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وكمة هى مجموعة إجراءات الرقابة التى يمارسها أصحاب المصالح فى المنشأة للرقابة على ما تقوم إدارة المنشأة من إجراءات رقابة وادارة ل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ctr" rtl="1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41480" y="3882960"/>
            <a:ext cx="22082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الموارد المشتركة 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بجزء من اعمال المراجعة الداخلية وبالتنسيق مع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الموارد الخارجية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 بجميع اعمال المراجعة الداخلية 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07160" y="3340080"/>
            <a:ext cx="0" cy="4572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11680" y="332748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08160" y="336564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15228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6676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49520" y="3505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شه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والسنو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00680" y="3429000"/>
            <a:ext cx="1587240" cy="9907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ورش العمل عن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مشاكل المخاطر والرقابة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تاب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528336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مذكر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37360" y="19177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مذكرات وتقاري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للمناقش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6360" y="32259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94440" y="1930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دى الألتز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0352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رير عن مشروع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45480" y="52833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رسم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67560" y="1413000"/>
            <a:ext cx="34480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واع التقارير من حيث  المضمو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4200" y="4746600"/>
            <a:ext cx="3130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واع التقارير من حيث الشك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2360" y="1865160"/>
            <a:ext cx="8523360" cy="274500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8280" y="5156280"/>
            <a:ext cx="8483760" cy="12445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5359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بأسلوب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تصنيف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0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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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20640" y="1397160"/>
          <a:ext cx="8218440" cy="530856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58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مذكرات وتقارير للمناقش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- تقارير مدى الألتزام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5872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رير عن مشروع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9623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 تقارير متابع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521280" y="1465200"/>
            <a:ext cx="628704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ى تقارير مبدئية تمثل نقاط للمناقشة حول النتائج المبدئية لمراجع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ين المراجع والجهات او الأدارات التى قام بمراجع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0640" y="3290760"/>
            <a:ext cx="5234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قصد بمراجعة مشروع هو مراجعة عمل معين اووحدات معين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رير فحص مشروع للإ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تقارير فحص الأعمال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فحص تقارير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ارير الفحص النافى للجهال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ختلف بأختلاف المشروع و متطلبات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0640" y="2386080"/>
            <a:ext cx="520884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زال مراجعة مدى الألتزام وتقديم تقارير عنه جانب له اهمية كبرى لدى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دة ما تتم مراجعة مدى الألتزام بأستخدام قوائم الأستقصاء النمط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لأفضل ان يتضمن فقط  مناطق عدم اللتزام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4805280"/>
            <a:ext cx="49532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متابعة نتائج المراجعة للتأكد من تنفيذ التوصيات التى أتفق عليها عن طريق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حصول على مصادقات الأدارة عما قامت به من إجراءات تصحيح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جراء اختبارات متابعة بواسطة المراجع الداخ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تابعة التقليدية للمراجعة فى حالة اكتشاف اخطاء هامة او مستوى مخاطر مرتفع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20:57:47Z</dcterms:created>
  <dc:creator>AMERRITT</dc:creator>
  <dc:description/>
  <dc:language>en-US</dc:language>
  <cp:lastModifiedBy>agamal</cp:lastModifiedBy>
  <cp:lastPrinted>2000-08-01T20:59:04Z</cp:lastPrinted>
  <dcterms:modified xsi:type="dcterms:W3CDTF">2003-04-29T13:22:05Z</dcterms:modified>
  <cp:revision>310</cp:revision>
  <dc:subject/>
  <dc:title>No Slide Title</dc:title>
</cp:coreProperties>
</file>